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A85-AFA4-499B-A2FE-B573E1F6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1CC-C166-4BCD-8B3B-0F25840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94A-5EE2-40B8-BF26-E4BD008D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40B-82B2-4F0F-A51B-D63D6E8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3E2-29B6-4F94-8549-1F4F447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CED-A619-442B-A51E-DEC30C4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291-D7D4-49D9-AF6C-CA02B5D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A6D-9F11-4B86-B260-F6922BDA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C48-0DA5-41ED-89E1-9A4BA43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338-8601-4106-9D99-C9DBDA9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15A-7FCB-428A-BE96-BAE8C0B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422-AA1A-410D-875D-1A23DA2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C922-A1E1-455B-B88B-6BD47BCC8E53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08360" y="2276640"/>
            <a:ext cx="49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8c7"/>
                </a:solidFill>
                <a:latin typeface="Verdana"/>
              </a:rPr>
              <a:t>SSN LOCODES 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97000"/>
            <a:ext cx="496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SSN Workshop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2b71"/>
                </a:solidFill>
                <a:latin typeface="Verdana"/>
              </a:rPr>
              <a:t>Lisbon 11-12 Jun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60760" y="4797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Lisbon, 12</a:t>
            </a:r>
            <a:r>
              <a:rPr b="1" lang="en-US" sz="1600" spc="-1" strike="noStrike" baseline="30000">
                <a:solidFill>
                  <a:srgbClr val="002b71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6DA-0246-476A-BF93-5287235881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ctions Required by M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Note and 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cooperate 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Take note o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Agree o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27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+ approve revision on ICD chapter 8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54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754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68360" y="1844640"/>
          <a:ext cx="6118560" cy="3800520"/>
        </p:xfrm>
        <a:graphic>
          <a:graphicData uri="http://schemas.openxmlformats.org/drawingml/2006/table">
            <a:tbl>
              <a:tblPr/>
              <a:tblGrid>
                <a:gridCol w="2111400"/>
                <a:gridCol w="4007160"/>
              </a:tblGrid>
              <a:tr h="526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SSN LO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UNECE LO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SSN 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Temporary LO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(validate and update UNECE 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13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EMSA-WGO</a:t>
                      </a: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  <a:ea typeface="ＭＳ Ｐゴシック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propos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Mapping 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IMO AIS Guide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4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MS</a:t>
                      </a: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  <a:ea typeface="ＭＳ Ｐゴシック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additional requ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EUROSTAT LO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2b71"/>
                          </a:solidFill>
                          <a:latin typeface="Verdana"/>
                        </a:rPr>
                        <a:t>SSN LOCODE list downloadable from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45640" y="287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mporary LO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940-834B-413E-B654-811580C0D931}" type="slidenum">
              <a:t>10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hank you</a:t>
            </a:r>
            <a:br>
              <a:rPr sz="2800"/>
            </a:b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ny Questions?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genda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 LOCOD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emporary LOCODE concep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emporary LOCODES Managemen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MSA proposals as discussed in WGO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New improvements requested by M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CD amendment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ctions require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1D5-0920-4719-A00D-460C42EC0F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SN LOCOD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 V1.8 used two types of LOCODES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3416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UN/LOCOD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: “United Nations LOCODE” adopted as reference to indentify port locations in SS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3416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SSN Specific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“</a:t>
            </a:r>
            <a:r>
              <a:rPr b="0" i="1" lang="en-US" sz="1800" spc="-1" strike="noStrike">
                <a:solidFill>
                  <a:srgbClr val="002b71"/>
                </a:solidFill>
                <a:latin typeface="Verdana"/>
              </a:rPr>
              <a:t>ZZCAN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”: when cancelling a previous Port notification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“</a:t>
            </a:r>
            <a:r>
              <a:rPr b="0" i="1" lang="en-US" sz="1800" spc="-1" strike="noStrike">
                <a:solidFill>
                  <a:srgbClr val="002b71"/>
                </a:solidFill>
                <a:latin typeface="Verdana"/>
              </a:rPr>
              <a:t>ZZUKN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”: when the next port is actually unknown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b71"/>
                </a:solidFill>
                <a:latin typeface="Verdana"/>
              </a:rPr>
              <a:t>“</a:t>
            </a:r>
            <a:r>
              <a:rPr b="0" i="1" lang="en-US" sz="1800" spc="-1" strike="noStrike">
                <a:solidFill>
                  <a:srgbClr val="002b71"/>
                </a:solidFill>
                <a:latin typeface="Verdana"/>
              </a:rPr>
              <a:t>XY”</a:t>
            </a:r>
            <a:r>
              <a:rPr b="1" i="1" lang="en-US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plus a </a:t>
            </a:r>
            <a:r>
              <a:rPr b="0" i="1" lang="en-US" sz="1800" spc="-1" strike="noStrike">
                <a:solidFill>
                  <a:srgbClr val="002b71"/>
                </a:solidFill>
                <a:latin typeface="Verdana"/>
              </a:rPr>
              <a:t>three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 characters code: waypoint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LOCODES in the process of being recognised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4914"/>
                </a:solidFill>
                <a:latin typeface="Verdana"/>
              </a:rPr>
              <a:t>notifications with non-registered SSN LOCODES rejected!!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 v1.9 accepts notifications containing </a:t>
            </a:r>
            <a:r>
              <a:rPr b="0" lang="en-US" sz="2000" spc="-1" strike="noStrike" u="sng">
                <a:solidFill>
                  <a:srgbClr val="002b71"/>
                </a:solidFill>
                <a:uFillTx/>
                <a:latin typeface="Verdana"/>
              </a:rPr>
              <a:t>non-registered SSN LOCODES being technically correct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temporary LOCOD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B41-D7FD-4279-AC97-7688BEF1A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emporary LOCOD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echnically correct LOCODE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wo letters identifying the country according to the ISO 3166 two-letter code an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ree characters identifying the location within the countr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Applying to Hazmat, MRS and Alert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(where applicable) notific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Port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notifications must contain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registered SSN LOCOD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AIS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notifications can contain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location names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s AIS standards do not require the use of LOCOD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761-8764-439D-B6B3-24C799CDBA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emporary LOCODES Managemen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Temporary LOCODES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needed by the NCAs for SSN reporting purposes are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validated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classified as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SSN Specific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by the MS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NCAs 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are invited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 to contact UNECE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and request including these additional locations in the UN/LOCODE lis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New locations remain as SSN Specific and Temporary LOCODES till the UNECE list incorporates the updates (list updated every six months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33F-460D-45DD-8F2F-F63F152D6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EMSA-WGO proposal 1: Mapping tabl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MSA invited MS to use mapping tables at national level in order to translate the location names into LOCODES</a:t>
            </a:r>
            <a:r>
              <a:rPr b="0" lang="en-US" sz="2000" spc="-1" strike="noStrike">
                <a:solidFill>
                  <a:srgbClr val="002b71"/>
                </a:solidFill>
                <a:latin typeface="ヒラギノ角ゴ ProN W3"/>
              </a:rPr>
              <a:t>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n the case of AIS notific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s process has not been successful: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“Next port of call”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nformation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s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lost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nd replaced by “ZZUKN”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n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90%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of the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AIS notification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EMSA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intends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to implement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mapping tables at central level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and ensure the proper update to assist M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MSA invites MS with experience on the use of mapping tables for their suppor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9FB-66BA-4236-9C31-A05ED4C605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EMSA-WGO</a:t>
            </a:r>
            <a:r>
              <a:rPr b="1" lang="en-GB" sz="2800" spc="-1" strike="noStrike">
                <a:solidFill>
                  <a:srgbClr val="0078c7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0078c7"/>
                </a:solidFill>
                <a:latin typeface="Verdana"/>
              </a:rPr>
              <a:t>proposal 2: IMO AIS Guidelin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MO Sub-Committee on Safety of Navigation recommends the use of the UN/LOCODE in the destination field in AIS messag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 recommended format is to enter both the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port of departure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and the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next port of call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using the UN/LOCODEs separated by the “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&gt;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” symbo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.G.: A ship leaving Dubai and bounding to Rotterdam should use the UN/LOCODEs as </a:t>
            </a: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AE DXB&gt;NL RTM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86A-545E-4732-86B8-0D7B9180C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MS additional improvements reques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download the SSN LOCODES list from the SSN web interfac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(replacing the current list available at EMSA web site) and make it available to all SSN user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2b7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use the EUROSTAT unknown port code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when the country is known but the specific port is unknown. The format is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b7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two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letters identifying the country (according to the ISO 3166 two-letter code) plus the “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888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b7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.G.: country of destination Portugal unknown port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PT888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D3C-4A60-4860-BC0C-3C318FB960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ICD Amendment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ICD chapter 8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to b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updated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in line with: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current SSN LOCODES implementation: addition of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temporary LOCOD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use the EUROSTAT unknown port code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SSN LOCODES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list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downloadable from the SSN web interface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FA1-D897-4799-A74D-BE9215A1FB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3:17:41Z</dcterms:created>
  <dc:creator>EMSA</dc:creator>
  <dc:description/>
  <dc:language>en-US</dc:language>
  <cp:lastModifiedBy>. .</cp:lastModifiedBy>
  <cp:lastPrinted>2004-03-26T09:05:49Z</cp:lastPrinted>
  <dcterms:modified xsi:type="dcterms:W3CDTF">2009-06-11T21:50:51Z</dcterms:modified>
  <cp:revision>83</cp:revision>
  <dc:subject/>
  <dc:title>Slide 1</dc:title>
</cp:coreProperties>
</file>